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410-7AD5-42F1-80B4-70A9236A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5DA-AF91-4786-BEFB-876C310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EE0-FAE5-4009-AE8C-02AD1E98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E7F-55E3-424E-A9F3-A0CD8E9B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8C5-2D41-4145-B275-35F5732B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C9E-D395-4728-8611-D493398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F35-80F1-48F7-9FB3-66F58E1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5D6-C488-49A5-932E-FB998CFC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8F5-8580-440C-91D3-8037099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CAF-9D28-45B6-AA34-B94ACC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EB5-367A-46FF-9541-815A517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33F-FEBE-480F-947B-C6C42F5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00C-32B0-4EDA-A6F8-0CBAAFC21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第一节   土石方工程定额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本章包括单独土石方、人工土石方、机械土石方及其他四项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单独土石方定额，适用于自然地坪与设计室外地坪之间，且挖方或填方工程量大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0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土石方工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人工土石方定额是按干土编制的。干、湿土的划分，以地质勘测资料的地下水位为界，以上为干土，以下为湿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468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挡土板定额分为疏板和密板。疏板是指间隔支挡土板，且板间净空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的情况；密板是指满支挡土板或板间净空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的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2276640"/>
          <a:ext cx="640872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640872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908000" y="5228280"/>
            <a:ext cx="49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密撑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b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疏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横撑式支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095640" cy="4680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挡土板下挖槽坑土时，相应定额人工乘以系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挡土板按施工组织设计规定的支挡范围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9370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907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桩间挖土，系指桩顶设计标高以下的挖土及设计标高以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范围内的挖土。挖土时不扣除桩体体积，相应定额项目人工、机械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765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土方定额项目是按土壤天然含水率编制的。开挖地下常水位以下的土方时，定额人工、机械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采取降水措施后的挖土不再乘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213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挖土方，应满足设计砌筑基础的要求，其挖土总量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，执行机械土方相应定额；其余按人工挖土。人工挖土套用相应定额时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125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　　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人力车、汽车的重车上坡降效因素，已综合在相应的运输定额中，不另行计算。挖掘机在垫板上作业时，相应定额的人工、机械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2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挖掘机下的垫板、汽车运输道路上需要铺设的材料，发生时，其人工和材料均按实另行计算。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62064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土石方的开挖、运输，均按开挖前的天然密实体积，以立方米计算。土方回填，按回填后的竣工体积，以立方米计算。不同状态的土方体积，按下表换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10800000">
            <a:off x="1403280" y="285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土方体积换算系数表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3429000"/>
          <a:ext cx="7848360" cy="2395440"/>
        </p:xfrm>
        <a:graphic>
          <a:graphicData uri="http://schemas.openxmlformats.org/drawingml/2006/table">
            <a:tbl>
              <a:tblPr/>
              <a:tblGrid>
                <a:gridCol w="1980720"/>
                <a:gridCol w="1981440"/>
                <a:gridCol w="20574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虚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然密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夯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484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工程外购黄土用于室内回填，已知室内回填土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试求买土的数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解：室内回填土按夯填考虑，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套定额：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4-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买土体积按虚方计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买土数量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×1.5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052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自然地坪与设计室外地坪之间的土石方，依据设计土方平衡竖向布置图，以立方米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基础土石方开挖深度，自设计室外地坪计算至基础底面，有垫层时计算至垫层底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如遇爆破岩石，其深度应包括岩石的允许超挖深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854440"/>
            <a:ext cx="201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45356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331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43280" y="620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作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机械土石方定额，机械挖土方，其挖土总量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执行机械土方相应定额，其余按人工挖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其他定额，包括场地平整与竣工清理、打夯与碾压及回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场地平整，是指建筑物所在现场厚度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以内的就地挖、填及平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竣工清理，是指建筑物及四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范围内的建筑垃圾清理、场内运输和指定地点的集中堆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土类为单一土质时，普通土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、坚土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７ｍ，允许放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土类为混合土质时，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，允许放坡。放坡坡度按不同土类厚度加权平均计算综合放坡系数。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99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31366" t="8221" r="31366" b="47922"/>
          <a:stretch/>
        </p:blipFill>
        <p:spPr>
          <a:xfrm>
            <a:off x="1835280" y="3716280"/>
            <a:ext cx="529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　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计算土方放坡深度时，不计算基础垫层的厚度。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0649" t="12917" r="34444" b="44142"/>
          <a:stretch/>
        </p:blipFill>
        <p:spPr>
          <a:xfrm>
            <a:off x="1835280" y="1700280"/>
            <a:ext cx="5545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60280"/>
            <a:ext cx="9144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挖沟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墙沟槽，按外墙中心线长度计算；内墙沟槽，按图示基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含垫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底面之间净长度计算；外、内墙突出部分的沟槽体积，并入相应工程量内计算。不扣除外墙壁基础（含垫层）的工作面宽度，也不扣除爆破岩石时的允许超挖量宽度，外、内墙突出部分的槽沟体积，按突出部分的中心线长度并入相应外、内墙沟槽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本工程基础垫层上基槽开挖深度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土类为混合土质，开挖深度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故基槽开挖需要放坡，放坡坡度按综合放坡系数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5×1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沟槽土方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1.8]×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32×6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9.5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3336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 : 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×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5.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2]×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]×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＇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6×1.8]×1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70×51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0.6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沟槽土方工程量合计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9.5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0.6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0.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有时候按上面计算的量大于按大开挖计算的工程量时，需要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90792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坚土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0.4]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}×6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0.4]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}×51.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.4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挖沟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坚土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2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0.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通土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0.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.4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3.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挖沟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通土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2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.2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620640"/>
            <a:ext cx="80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挖土工程量＝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·h·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宽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深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中心线长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种检查井和排水管道接口等处，因加宽而增加的工程量均不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底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井类除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但铸铁给水管道接口处的土方工程量，应按铸铁管道沟槽全部土方工程量增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土石方的运距，按挖土区重心至填方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或堆放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心间的最短距离计算。推土机、装载机、铲运机重车上坡时，其运距按坡道斜长乘下表系数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06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车上坡运距系数表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3716280"/>
          <a:ext cx="8351640" cy="1149480"/>
        </p:xfrm>
        <a:graphic>
          <a:graphicData uri="http://schemas.openxmlformats.org/drawingml/2006/table">
            <a:tbl>
              <a:tblPr/>
              <a:tblGrid>
                <a:gridCol w="1760040"/>
                <a:gridCol w="1624320"/>
                <a:gridCol w="1655640"/>
                <a:gridCol w="1800000"/>
                <a:gridCol w="1511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坡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运土按下式，以立方米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运土体积＝挖土总体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回填土总体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式中的计算结果为正值时，为余土外运；为负值时取土内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981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.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竣工清理按下列规定以立方米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一）筑物勒脚以上外墙外围水平面积乘以檐口高度。有山墙者以山尖二分之一高度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竣工清理工程量＝筑物勒脚以上外墙外围水平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室外地坪到檐口（山尖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的高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62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节  工程量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70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场地平整，系指建筑物所在现场厚度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的就地挖、填及平整。局部挖填厚度超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挖填工程量按相应规定计算，该部位仍计算平整场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076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平整场地发生的工程内容为：土方挖填，场地找平，土方开挖，运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二）地下室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包括半地下室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的建筑体积，按地下室上口外围水平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不包括地下室采光井及敷贴外部防潮层的保护砌体所占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乘以地下室地坪至建筑物第一层地坪间的高度。地下室出入口的建筑体积并入地下室建筑体积内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40464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场地平整按下列规定以平方米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筑物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构筑物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按首层结构外边线，每边各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计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场地平整工程量＝底层建筑面积＋外墙外边线长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无柱檐廊、挑阳台、独立柱雨篷等，按其水平投影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封闭或半封闭的曲折型平面，其场地平整的区域，不得重复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道路、停车场、绿化地、围墙、地下管线等不能形成封闭空间的构筑物，不得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图所示，按定额规定计算该建筑物的人工场地平整工程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349360"/>
          <a:ext cx="79200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9200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628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人工场地平整工程量计算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24.24×11.04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]+ [(24.24+11.04)×2+3.3×2]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6=379.3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24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04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-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=379.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定额：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4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意：按规范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4.24×11.04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26.2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4581360"/>
            <a:ext cx="86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章土壤及岩石按普通土、坚土、松石、坚石分类，其具体分类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土壤及岩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类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6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单独土石方定额项目，适用于自然地坪与设计室外地坪之间，且挖方或填方工程量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土石方工程。本章其他定额项目，适用于设计室外地坪以下的土石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础土石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程，以及自然地坪与设计室外地坪之间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土石方工程。单独土石方定额项目不能满足需要时，可以借用其他土石方定额项目，但应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981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人工土方定额是按干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天然含水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编制的。干湿土的划分，以地质勘测资料的地下常水位为界，以上为干土，以下为湿土。采取降水措施后，地下常水位以下的挖土，套用挖干土相应定额，人工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26:48Z</dcterms:created>
  <dc:creator/>
  <dc:description/>
  <dc:language>en-US</dc:language>
  <cp:lastModifiedBy>user</cp:lastModifiedBy>
  <dcterms:modified xsi:type="dcterms:W3CDTF">2013-01-04T08:28:28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