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6.jpeg" ContentType="image/jpe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52C-D53C-4403-91FF-C7688944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B07-BB81-4FC3-831C-AB79B516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FE3-B80B-403E-9266-17273519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D38-F505-4D10-B4BE-76E7A76C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ADF-B14F-4D3A-AAE5-D75A2675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8BB-A329-44B6-8A3B-5A96110C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789-D5CD-450E-AEFF-8D5B1B90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B6A-CFD9-4180-ACA3-9365D97D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59D-29C7-4448-91BD-0049B895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845-BCF1-42E8-932A-E1B6D123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CD9-A2BD-43AA-ACDA-E79ED721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879-5FE8-4680-AE7A-D14B4CB4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39B9-835E-4190-B2F6-3CEA70F939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40464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第一节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楼地面工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773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楼地面是指构成的基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楼板、夯实土基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、垫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承受地面荷载并均匀传递给基层的构造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、填充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在建筑楼地面上起隔音、保温、找坡或敷设暗管、暗线等作用的构造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、隔离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起防水、防潮作用的构造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、找平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在垫层、楼板上或填充层上起找平、找坡或加强作用的构造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、结合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面层与下层相结合的中间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、面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直接承受各种荷载作用的表面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1341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注意点缀和分色小块料的区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7226" t="11403" r="19589" b="22314"/>
          <a:stretch/>
        </p:blipFill>
        <p:spPr>
          <a:xfrm>
            <a:off x="1042920" y="2349360"/>
            <a:ext cx="69836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9280" y="907920"/>
            <a:ext cx="864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楼地面铺缸砖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勾缝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子目，定额按缝宽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ｍｍ编制；铺广场砖子目，定额按缝宽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ｍｍ编制。其他块料面层项目，定额均按密缝编制。设计缝宽与定额不同时，其块料和勾缝砂浆的用量可以调整，其他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76500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案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-2]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某展览厅花岗石地面如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-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所示。墙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4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，门洞口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，地面找平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细石混凝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厚，细石混凝土现场搅拌。地面中有钢筋混凝土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根，直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8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个花岗石图案为圆形，直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.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，图案外边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2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；其余为规格块料点缀图案，规格块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6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，点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个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l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宽济南青花岗岩围边，均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:2.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水泥砂浆粘贴。编制石材楼地面工程工程量清单和清单报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58920" y="1125360"/>
          <a:ext cx="662472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25360"/>
                    <a:ext cx="662472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635280" y="5445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6286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楼地面层铺地毯，定额按矩形房间编制。若遇异形房间，设计允许接缝时，人工乘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.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其他不变；设计不允许接缝时，人工乘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.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地毯损耗率，根据现场裁剪实际情况测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0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三、其他材料面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125360"/>
            <a:ext cx="8785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踢脚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除缸砖、彩釉砖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定额均按成品考虑编制，其中异形踢脚板指非矩形的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预制水磨石踢脚板设计为异形时，执行大理石异形踢脚板子目，调整其中的大理石踢脚板，消耗量及其他均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实木踢脚板子目，定额按踢脚板直接铺钉在墙面上编制。若设计要求做基层板，另按定额“墙、柱饰面”中护基层板子目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踢脚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根据设计做法，以定额单位的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或ｍ计算工程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踢脚板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踢脚板净长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高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或                   踢脚线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踢脚线净长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四、踢脚线及楼地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981000"/>
            <a:ext cx="878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某房屋平面如图所示，室内水泥砂浆粘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高预制水磨石踢脚板，计算工程量，确定定额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35053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55640" y="2708280"/>
          <a:ext cx="763272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08280"/>
                    <a:ext cx="76327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5053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268280"/>
            <a:ext cx="86425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踢脚板工程量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[(8.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4)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4.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4)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80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12×6]×0.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5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水泥砂浆粘贴预制水磨石踢脚板  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1-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定额基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7.6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125360"/>
            <a:ext cx="8785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楼梯面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包括踏步及最后一级踏步宽、休息平台、小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宽的楼梯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按水平投影面积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通常情况下，当楼梯井宽度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楼梯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楼梯间净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休息平台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踏步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步数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楼层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当楼梯井宽度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楼梯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楼梯间净宽－楼梯井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0.5)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休息平台宽＋踏步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步数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楼层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1100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47640" y="304920"/>
          <a:ext cx="604872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04920"/>
                    <a:ext cx="604872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79280" y="4869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≤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时，楼梯面层工程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L×A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为楼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时，楼梯面层工程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[L×A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-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b]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125360"/>
            <a:ext cx="8785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本节中的水泥砂浆、水泥石子浆、混凝土等配合比，设计规定与定额不同时，可以换算，其他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整体面层中的楼地项目、楼梯项目，均不包括踢脚板、楼梯侧面、牵边；台阶不包括侧面、牵边；设计有要求时，按相应定额项目计算。细石混凝土、钢筋混凝土整体面层设计厚度与定额不同时，混凝土厚度可按比例换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水磨石楼地面子目，不包括水磨石面层的分格嵌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防滑条、地面分格嵌条按设计尺寸以延长米另行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一、整体面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6477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971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76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某二层楼房，双跑楼梯平面如图所示，顶面铺花岗石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未考虑防滑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水泥砂浆粘贴，计算工程量，确定定额项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3840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9640" y="2349360"/>
          <a:ext cx="472428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349360"/>
                    <a:ext cx="47242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6477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71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840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197000"/>
            <a:ext cx="889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花岗石板楼梯工程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0.3+3.0+1.5-0.12)×(3.6-0.24)=15.7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楼梯水泥砂浆粘贴花岗石板  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1-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255.9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26028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第二节  墙柱面工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305320"/>
            <a:ext cx="9144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墙、柱面工程工程量清单共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个分项工程清单项目，即墙面抹灰、柱面抹灰、零星抹灰、墙面镶贴块料、柱面镶贴块料、零星镶贴块料，墙饰面、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饰面、隔断、幕墙等工程。适用于一般抹灰、装饰抹灰工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05264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一般抹灰包括石灰砂浆、水泥混合砂浆、水泥砂浆、聚合物水泥砂浆、膨胀珍珠岩水泥砂浆和麻刀灰、纸筋石灰、石膏灰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装饰抹灰包括水刷石、水磨石、斩假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剁斧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干粘石、假面砖、拉条灰、拉毛灰、甩毛灰、扒拉石、喷毛灰、喷涂、喷砂、滚涂、弹涂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79280" y="404640"/>
            <a:ext cx="41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、墙面抹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05264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墙、柱面工程所有子目，定额不分外墙、内墙，使用时按设计饰面做法和不同材质墙体，分别执行相应定额子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墙、柱面工程中凡注明砂浆种类、配合比、饰面材料型号规格的，设计与定额不同时，可按设计规定调整，但人工数量不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5256000" cy="4249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3333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、墙面抹石灰砂浆分二遍、三遍、四遍，其标准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二遍：一遍底层，一遍面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三遍：一遍底层，一遍中层，一遍面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四遍：一遍底层，一遍中层，二遍面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52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2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抹灰等级与遍数、厚度、工序、外观质量的对应表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  表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8000" y="1341360"/>
          <a:ext cx="8785080" cy="4572000"/>
        </p:xfrm>
        <a:graphic>
          <a:graphicData uri="http://schemas.openxmlformats.org/drawingml/2006/table">
            <a:tbl>
              <a:tblPr/>
              <a:tblGrid>
                <a:gridCol w="1762200"/>
                <a:gridCol w="1868400"/>
                <a:gridCol w="2390760"/>
                <a:gridCol w="276372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          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普 通  抹 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   级    抹  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  级  抹  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遍         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         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                 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              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厚度不大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ｍ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ｍ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ｍ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主要工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表面压光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层赶平、修整，表面压光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层赶平、修整，表面压光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观质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表面光滑、洁净，接槎平整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表面光滑，洁净，接槎平整，灰缝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晰顺直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表面光滑，洁净，颜色均匀，无抹纹灰线平直方正，清晰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54936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墙、柱面工程抹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含一般抹灰和装饰抹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子目，定额注明了抹灰厚度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厚度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者，砂浆种类为一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厚度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×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者，砂浆种类为两种，前者为打底厚度，后者为罩面厚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厚度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×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×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者，砂浆种类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种，前者为罩面厚度，中者为中层厚度，后者为打底厚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砂浆种类和抹灰厚度，设计与定额不同时，执行抹灰砂浆厚度调整子目。先调整抹灰厚度，再调整砂浆种类，其他不变。定额未注明抹灰厚度的，不作调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98100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窗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论内、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抹灰的砂浆种类和厚度，与墙面一致时不另计算，否则按其展开宽度，按相应零星项目或装饰线条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圆弧形墙面的抹灰，按相应项目人工乘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333360"/>
            <a:ext cx="878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凸弧形装饰线条按下列规定执行补充定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凸弧形装饰线条，系指突出墙面、断面外形为弧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由抹灰形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直线形线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凸弧形装饰线条，区分不同断面，按设计长度，以米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突出墙面的矩形混凝土或砖外表面，抹灰形成凸弧形装饰线条，该线条的断面面积应扣除混凝土或砖所占的矩形面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线条纵向成弧形，或纵向直线连续长度小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时，人工乘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83664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楼地面找平层和整体面层均按主墙间净面积以平方米计算。计算时应扣除凸出地面的构筑物、设备基础、室内铁道、室内地沟等所占面积，不扣除柱、垛、间壁墙、附墙烟囱及面积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以内的孔洞所占面积，但门洞、空圈、暖气包槽、壁龛的开口部分亦不增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楼地面找平层和整体面层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主墙间净长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主墙间净宽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-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构筑物等所占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9280" y="333360"/>
            <a:ext cx="8785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墙面抹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含一般抹灰和装饰抹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工程量，应扣除零星抹灰所占面积，不扣除各种装饰线条所占面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9280" y="620640"/>
            <a:ext cx="8785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内墙抹灰工程量按以下规则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墙抹灰以平方米计算。计算时应扣除门窗洞口和空圈所占的面积，不扣除踢脚板、挂镜线、单个面积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内的孔洞、墙与构件交接处的面积，洞侧壁和顶面亦不增加。墙垛和附墙烟囱侧壁面积与内墙抹灰工程量合并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9280" y="333360"/>
            <a:ext cx="878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墙面抹灰的长度，以主墙间的图示净长尺寸计算。其中，主墙一般是指在结构上起承重作用和功能性隔断的墙体（轻体隔断墙、间壁墙除外）。其高度确定如下：无墙裙的，其高度按室内地面或楼面至顶棚底面之间距离计算；有墙裙的，其高度按墙裙顶至顶棚底面之间距离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692280"/>
            <a:ext cx="878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有顶棚的，其高度至顶棚底面另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内墙抹灰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主墙间净长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墙面高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门窗等面积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垛的侧面抹灰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墙裙抹灰面积按内墙净长乘以高度计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扣除或不扣除内容同内墙抹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内墙裙抹灰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主墙间净长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墙裙高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门窗所占面积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垛的侧面抹灰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280" y="1052640"/>
            <a:ext cx="8785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某工程如图所示，内墙面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: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水泥砂浆底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: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石灰砂浆找平层，麻刀石灰浆面层，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厚。内墙裙采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: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水泥砂浆打底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厚）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:2.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水泥砂浆面层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厚），计算内墙面抹灰工程量，确定定额项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1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27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   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15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18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   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4360" y="333360"/>
          <a:ext cx="823104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823104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24000" y="3560760"/>
            <a:ext cx="8820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①内墙面抹灰工程量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(4.50×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24×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12×2)×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5.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24)×4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(3.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90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00×(2.7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90)×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50×1.80×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8.7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石灰砂浆砖墙面抹灰三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套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-2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.2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457200"/>
            <a:ext cx="88930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抹灰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: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石灰砂浆每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厚  套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2-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67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3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墙裙工程量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[(4.50×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4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12×2)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.4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4)×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00×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0.9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8.8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砖墙裙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厚水泥砂浆  套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2-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1.9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抹灰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: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水泥砂浆每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厚  套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2-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88×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.4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476280"/>
            <a:ext cx="878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外墙一般抹灰工程量按以下规则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外墙抹灰面积，按设计外墙抹灰的垂直投影面积以平方米计算。计算时应扣除门窗洞口、外墙裙和单个面积大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孔洞所占面积，洞口侧壁面积不另增加。附墙垛、梁、柱侧面抹灰面积并入外墙面工程量内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外墙抹灰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外墙面长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墙面高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门窗等面积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垛的侧面抹灰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9280" y="47628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外墙裙抹灰面积按其长度乘高度计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扣除或不扣除内容同外墙抹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外墙裙抹灰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外墙面长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墙裙高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门窗所占面积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垛侧面抹灰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9280" y="69228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面勾缝按设计勾缝墙面的垂直投影面积计算。不扣除门窗洞口、门窗套、腰线等零星抹灰所占的面积，附墙柱和门窗洞口侧面的勾缝面积也不增加。独立柱、房上烟囱勾缝，按图示尺寸以平方米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墙面勾缝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墙面长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墙面高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83664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地面垫层按室内主墙间净面积乘以设计厚度，以立方米计算。计算时，应扣除凸出地面的构筑物、设备基础、室内铁道、地沟以及单个面积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以上的孔洞、独立柱等所占体积，不扣除间壁墙、附墙烟囱、墙垛以及单个面积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以内的孔洞等所占体积，门洞、空圈、暖气壁龛等开口部分也不增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地面垫层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（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S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房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-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单个面积在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0.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ｍ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  <a:ea typeface="仿宋_GB2312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以上孔洞独立柱及构筑物等面积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垫层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S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房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=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S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底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-Σ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L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中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外墙厚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-Σ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L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内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内墙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280" y="69228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外墙各种装饰抹灰均按设计外墙抹灰的垂直投影面积计算。计算时，应扣除门窗洞口、空圈及单个面积大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孔洞所占面积，其侧壁面积不另增加。附墙垛侧面抹灰面积并入外墙抹灰工程量内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外墙装饰抹灰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外墙面长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抹灰高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门窗等面积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垛的侧面抹灰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6094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二、柱面抹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557360"/>
            <a:ext cx="8209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柱面抹灰项目适用于矩形柱、异形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包括圆形柱、半圆形柱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柱装饰抹灰按结构断面周长乘以设计柱抹灰高度，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柱装饰抹灰工程量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柱结构断面周长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设计柱抹灰高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6094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三、零星抹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1341360"/>
            <a:ext cx="8785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一般抹灰中的“零星项目”适用于各种壁柜、碗柜、过人洞、暖气壁龛、池槽、花台以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内的抹灰；“装饰线条”抹灰适用于门窗套挑檐、腰线、压顶、遮阳板、楼梯边梁、宣传栏边框等展开宽度小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以内的竖、横线条抹灰。展开宽度超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时按“零星项目”执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装饰抹灰的“零星项目”适用于挑檐、天沟、腰线、窗台线、门窗套、压顶、栏板、扶手、遮阳板、雨篷周边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404640"/>
            <a:ext cx="8785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外墙一般抹灰中的其他抹灰，展开宽度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以内者，按延长米计算；展开宽度超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以上时，按图示尺寸的展开面积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其他抹灰工程量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展开宽度在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ｍｍ以内的实际长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 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其他抹灰工程量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展开宽度在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ｍｍ以上的实际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外墙一般抹灰中的栏板、栏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包括立柱、扶手或压项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抹灰做法相同时，抹灰按垂直投影面积，以平方米计算；设计抹灰做法不同时，按其他抹灰规定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栏板、栏杆工程量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栏板、栏杆长度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栏板、栏杆抹灰高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、装饰抹灰中的挑檐、天沟、腰线、栏板、门窗套、窗台线、压顶等均按图示尺寸的展开面积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13509" t="4906" r="10294" b="7919"/>
          <a:stretch/>
        </p:blipFill>
        <p:spPr>
          <a:xfrm>
            <a:off x="1619280" y="1628640"/>
            <a:ext cx="5327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280" y="404640"/>
            <a:ext cx="878544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某工程如图所示，外墙面抹水泥砂浆，底层为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水泥砂浆打底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厚，面层为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水泥砂浆抹面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厚；外墙裙水刷石，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水泥砂浆打底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厚，素水泥浆二遍，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水泥白石子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厚（介格），挑檐水刷白石，厚度与配合比均与定额相同，计算外墙面抹灰和外墙裙及挑檐装饰抹灰工程量，确定定额项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ｍｍ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25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ｍ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Ｃ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:12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×15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981000"/>
          <a:ext cx="914400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9280" y="333360"/>
            <a:ext cx="8785440" cy="57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①外墙面水泥砂浆工程量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6.4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00)×2×(3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0.10-0.90)-1.00×(2.50-0.90)-1.20×1.50×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3.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砖墙面抹水泥砂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套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-2-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71.98+0.069×(194.4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80.2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72.9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墙裙水刷白石子工程量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(6.4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00)×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.00]×0.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7.9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砖墙面水刷白石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ｍ厚  套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2-7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76.34+0.115×(506.48-551.27)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1.1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404640"/>
            <a:ext cx="91440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素水泥浆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[(6.4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00)×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.00]×0.90=17.9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每增一遍素水泥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套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-2-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2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格嵌缝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[(6.4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00)×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.00]×0.90=17.9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格嵌缝  套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-2-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挑檐水刷石工程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(6.4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00)×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60×8]×(0.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04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6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挑檐水刷白石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厚  套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-2-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92.8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6094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四、墙柱面镶贴块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134136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墙面干挂大理石、花岗岩子目，定额按块料挂在膨胀螺栓上编制。若设计挂在龙骨上，龙骨单独计算，执行相应龙骨子目；扣除子目中膨胀螺栓的消耗量，其他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外墙贴面砖项目，灰缝宽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以内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以内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以内列项，其人工、材料已综合考虑。如灰缝超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以上者，其块料及灰缝材料用量允许调整，其他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圆弧形、锯齿形墙面镶贴块料，按相应项目人工乘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752480"/>
            <a:ext cx="9677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053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04640"/>
            <a:ext cx="878544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解：①找平层工程量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(9.9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)×(6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)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(9.9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)×(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)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45.7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2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细石混凝土找平层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厚   套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9-1-4  9-1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定额基价＝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7.1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1.96×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44.98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②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白水泥色石子水磨石面层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ｍ厚）工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(9.9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)×(6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)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(9.9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)×(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45.7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白水泥色石子水磨石地面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ｍ厚）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套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9-1-16  9-1-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定额基价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25.19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6.35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61.5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343400"/>
            <a:ext cx="9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83664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墙面镶贴块料高度大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时，按墙面、墙裙项目套用；小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按踢脚线项目套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镶贴块料面层子目，除定额已注明留缝宽度的项目外，其余项目均按密缝编制。若设计留缝宽度与定额不同，其相应项目的块料和勾缝砂浆用量可以调整，其他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面贴块料面层按图示尺寸的实贴面积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面贴块料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图示长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装饰高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33336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某变电室，外墙面尺寸如图所示，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5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×20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；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1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5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×15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；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2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2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×8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；门窗侧面宽度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，外墙水泥砂浆粘贴规格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94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×94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瓷质外墙砖，灰缝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，计算工程量，确定定额项目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3284640"/>
          <a:ext cx="8893080" cy="31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284640"/>
                    <a:ext cx="8893080" cy="31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79280" y="907920"/>
            <a:ext cx="87854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外墙面砖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6.24+3.90)×2×4.20-(1.50×2.00)-(1.50×1.50)-(1.20×0.80)×4+[1.50+2.00×2+1.50×4+(1.20+0.80)×2×4]×0.10=78.8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外墙面水泥砂浆粘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规格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9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9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，灰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瓷质面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2-216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5.5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98100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镶贴块料面层子目，除定额已注明留缝宽度的项目外，其余项目均按密缝编制。若设计留缝宽度与定额不同，其相应项目的块料和勾缝砂浆用量可以调整，其他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柱面贴块料面层按块料外围周长乘以装饰高度，以平方米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柱面贴块料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柱装饰块料外围周长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装饰高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35280" y="189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第三节 顶棚工程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天棚工程工程量清单共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分项工程清单项目：即天棚抹灰、天棚吊顶和天棚其他装饰。适用于天棚装饰工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40464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顶棚抹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顶棚抹灰面积，按主墙间的净面积计算；不扣除柱、垛、间壁墙、附墙烟囱、检查口和管道所占的面积。带梁顶棚，梁两侧抹灰面积，并入顶棚抹灰工程量内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顶棚抹灰工程量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主墙间的净长度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主墙间的净宽度＋梁侧面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密肋梁和井字梁顶棚抹灰面积，按展开面积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井字梁顶棚抹灰工程量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主墙间的净长度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主墙间的净宽度＋梁侧面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79280" y="76500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某工程现浇井字梁顶棚如图所示，麻刀石灰浆面层，计算工程量，确定定额项目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7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62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327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1197000"/>
            <a:ext cx="8280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顶棚抹灰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6.60-0.24)×(4.40-0.24)+(0.40-0.12)×6.36×2+(0.25-0.12)×3.86×2×2-(0.25-0.12)×0.15×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1.9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浇混凝土面顶棚麻刀石灰浆面层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3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3.8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404640"/>
            <a:ext cx="8893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顶棚抹灰带有装饰线时，装饰线按延长米计算。装饰线的道数以一个突出的棱角为一道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装饰线工程量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Σ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（房间净长度＋房间净宽度）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檐口顶棚及阳台、雨篷底的抹灰面积，并入相应的顶棚抹灰工程量内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顶棚中的折线、灯槽线、圆弧形线、拱形线等艺术形式的抹灰，按展开面积计算，并入相应的顶棚抹灰工程量内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404640"/>
            <a:ext cx="864216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二、天棚吊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吊顶顶棚中龙骨是按常用材料及规格编制的。设计规定与定额不同时，可以换算，其他不变。材料的损耗率分别为：木龙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轻钢龙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铝合金龙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顶棚木龙骨吊杆的规格与用量，设计与定额不同时，可以调整，其他不变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角钢的损耗率均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%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752480"/>
            <a:ext cx="9677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5053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476280"/>
            <a:ext cx="878544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ｍ铜条单间总长度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(9.9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)×[(6.0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)÷1.0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]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(6.0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)×[(9.9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)÷1.0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]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9.06×6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5.16×1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05.96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ｍ铜条走廊总长度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(9.90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)×[(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)÷1.0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]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(2.0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)×[(9.9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)÷1.0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8.96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.16×2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61.1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ｍ铜条工程量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105.96×2+61.12=273.0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水磨石地面嵌铜分隔条  套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9-1-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定额基价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7.65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343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30837" t="4108" r="12019" b="46115"/>
          <a:stretch/>
        </p:blipFill>
        <p:spPr>
          <a:xfrm>
            <a:off x="755640" y="0"/>
            <a:ext cx="7848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30837" t="53425" r="12019" b="3087"/>
          <a:stretch/>
        </p:blipFill>
        <p:spPr>
          <a:xfrm>
            <a:off x="900000" y="189000"/>
            <a:ext cx="7848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0" r="0" b="-7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4437000"/>
            <a:ext cx="9144000" cy="181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定额中顶棚等级划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顶棚面层在同一标高者为“一级”顶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顶棚面层不在同一标高，且龙骨有跌级高差者为“二级～三级”顶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9280" y="404640"/>
            <a:ext cx="8785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轻钢龙骨、铝合金龙骨定额按双层结构编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即中、小龙骨紧贴大龙骨底面吊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如采用单层结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大、中龙骨底面在同一水平面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扣除定额内小龙骨及相应配件数量，人工乘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8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顶棚木龙骨子目，区分单层结构与双层结构。单层结构是指双向木龙骨形成的龙骨网片，直接由吊杆引上、与吊点固定的情况；双层结构是指双向木龙骨形成的龙骨网片，首先固定在单向设置的主木龙骨上，再由主木龙骨与吊杆连接、引上、与吊点固定的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9546" t="8084" r="0" b="24278"/>
          <a:stretch/>
        </p:blipFill>
        <p:spPr>
          <a:xfrm>
            <a:off x="1116000" y="981000"/>
            <a:ext cx="676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9280" y="90792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定额中顶棚龙骨、顶棚面层分别列项，使用时分别套用相应定额。对于二级及二级以上顶棚的面层，人工乘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-3-9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子目中“小面积”指面积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0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顶棚装饰面开挖灯孔，按每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灯孔用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日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836640"/>
            <a:ext cx="856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各种吊顶顶棚龙骨按主墙间净空面积以平方米计算；不扣除间壁墙、检查口、附墙烟囱、柱、灯孔、垛和管道所占面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级吊顶顶棚龙骨工程量＝主墙间的净长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墙间的净宽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44540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“二至三级”顶棚龙骨的工程量，按龙骨跌级高差外边线所含最大矩形（以内或以外）面积以平方米计算，套用“二至三级”顶棚龙骨定额项目。若最大跌落线向外距墙边小于等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ｍ时，最大跌落线以外全部吊顶为“二至三级”顶棚龙骨；若最小跌落线其任意两对边之间的距离（或直径）小于等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ｍ时，最大跌落线以内全部吊顶为“二至三级”顶棚龙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79280" y="1962360"/>
            <a:ext cx="8785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吊顶局部向下跌落，以最大和最小跌落线每边各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6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ｍ为“二至三级”顶棚龙骨，其余为“一级”顶棚龙骨；若吊顶跌落的一侧为板底抹灰，该侧不得计算顶棚龙骨，另一侧为一个跌级时，按一级顶棚龙骨计算；面层按“二至三级”顶棚饰面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一级吊顶顶棚龙骨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主墙间的净长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主墙间的净宽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“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二至三级”顶棚龙骨工程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80" y="765000"/>
            <a:ext cx="8785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顶棚饰面工程量按以下规则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）顶棚装饰面积，按主墙间设计面积以平方米计算；不扣除间壁墙、检查口、附墙烟囱、附墙垛和管道所占面积，但应扣除独立柱、灯带、大于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的灯孔及与顶棚相连的窗帘盒所占的面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顶棚饰面工程量＝主墙间的净长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墙间的净宽度－独立柱等所占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4537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537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60280"/>
            <a:ext cx="896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垫层是指混凝土垫层、砂石人工级配垫层、天然级配砂石垫层、灰、土垫层、碎石、碎砖垫层、三合土垫层、炉渣垫层等材料垫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找平层是指水泥砂浆找平层，有比较特殊要求的可采用细石混凝土、沥青砂浆、沥青混凝土找平层等材料铺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隔离层是指卷材、防水砂浆、沥青砂浆或防水涂料等隔离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填充层是指轻质的松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炉渣、膨胀蛭石、膨胀珍珠岩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或块体材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加气混凝土、泡沫混凝土、泡沫塑料、矿棉、膨胀珍珠岩、膨胀蛭石块和板材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以及整体材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沥青膨胀珍珠岩、沥青膨胀蛭石、水泥膨胀珍珠岩、膨胀蛭石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填充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1484280"/>
            <a:ext cx="85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顶棚中的折线、跌落、拱形、高低灯槽及其他艺术形式顶棚面层均按展开面积计算。由于线角较多，故增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0%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的用工量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艺术形式顶棚饰面工程量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展开长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展开宽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27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657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8424720" cy="2890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3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预制钢筋混凝土板底吊不上人型装配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型轻钢龙骨，间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4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，龙骨上铺钉中密度板，面层粘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厚铝塑板，尺寸如图所示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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计算顶棚工程量，确定定额项目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327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657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692280"/>
            <a:ext cx="8713800" cy="44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①轻钢龙骨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12-0.24)×(6-0.24)=67.7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上人型装配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型轻钢龙骨（一级），间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4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，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3-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6.7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层板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12-0.24)×(6-0.24)-0.30×0.30=67.6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27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657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907920"/>
            <a:ext cx="8640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轻钢龙骨上铺钉中密度基层板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3-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1.3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铝塑板面层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12-0.24)×(6-0.24)-0.30×0.30=67.6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面层粘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厚铝塑板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3-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290.9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79280" y="9079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某三级天棚尺寸如图所示，钢筋混凝土板下吊双层楞木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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面层为塑料板，计算顶棚工程量，确定定额项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7416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76960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189000"/>
            <a:ext cx="68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第四节    油漆、涂料及裱糊工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021360"/>
            <a:ext cx="9144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油漆、涂料、裱糊工程工程量清单共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个分项工程清单项目，门油漆，窗油漆，木扶手及其他板条线条油漆，木材面油漆，金属面油漆，抹灰面油漆，喷刷、涂料，花饰、线条刷涂料，裱糊等。适用于门窗油漆、金属和抹灰面油漆工程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358128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0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、门窗油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1341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木踢脚线油漆按踢脚线的计算规则计算工程量，套用其他木材面油漆项目。木踢脚板油漆，若与木地板油漆相同，并入地板工程量内计算，其工程量计算方法和系数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其他木材面工程量系数表中的“零星木装饰”项目，指木材面油漆工程量系数表中未列的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358128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90792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木材面油漆的工程量分别按油漆、涂料系数表（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至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的规定，并乘以系数表内的系数，以平方米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油漆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代表项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各项相应系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基层处理的工程量按其面层的工程量套用基层处理相应子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层处理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面层工程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木材面油漆按设计图示尺寸以面积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9079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木材面油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1844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木踢脚线油漆按踢脚线的计算规则计算工程量，套用其他木材面油漆项目。木踢脚板油漆，若与木地板油漆相同，并入地板工程量内计算，其工程量计算方法和系数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其他木材面工程量系数表中的“零星木装饰”项目，指木材面油漆工程量系数表中未列的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79280" y="907920"/>
            <a:ext cx="87854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木材面油漆的工程量分别按油漆、涂料系数表（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至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的规定，并乘以系数表内的系数，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油漆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代表项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各项相应系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基层处理的工程量按其面层的工程量套用基层处理相应子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基层处理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面层工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木材面油漆按设计图示尺寸以面积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4537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537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620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面层是指整体面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水泥砂浆、现浇水磨石、细石混凝土、菱苦土等面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块料面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石材、陶瓷地砖、橡胶、塑料、竹、木地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等面层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58128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549360"/>
            <a:ext cx="878544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三、喷刷涂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喷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塑三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大压花、中压花、喷中点的规格划分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大压花：喷点压平、点面积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压花：喷点压平、点面积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喷中点、幼点：喷点面积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358128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楼地面、顶棚面、墙、柱面的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涂料、油漆工程，其工程量按装饰工程各自抹灰的工程量计算规则计算。涂料系数表（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1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中有规定的，按规定计算工程量并乘系数表中的系数。裱糊项目工程量，按设计裱糊面积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涂刷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抹灰面工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裱糊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裱糊（实贴）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木材面刷防火涂料，按所刷木材面的面积计算工程量；木方面刷防火涂料，按木方所附墙、板面的投影面积计算工程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木材面刷防火涂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板方框外围投影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79280" y="549360"/>
            <a:ext cx="878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某工程如图所示尺寸，地面刷过氯乙烯涂料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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合板木墙裙上润油粉，刷硝基清漆六遍，墙面、顶棚刷乳胶漆三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光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计算工程量，确定定额项目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61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9280" y="907920"/>
            <a:ext cx="871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地面刷涂料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6.00-0.24)(3.60-0.24)=19.3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地面刷过氯乙烯涂料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4-1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36.5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79280" y="1125360"/>
            <a:ext cx="87854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裙刷硝基清漆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6.00-0.24+3.60-0.24]×2-1.00+0.12×2]×1.00×1.00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系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7.4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裙刷硝基清漆五遍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4-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41.3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裙刷硝基清漆每增一遍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4-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1.9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9280" y="981000"/>
            <a:ext cx="8964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顶棚刷乳胶漆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.76×3.35=19.3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顶棚刷乳胶漆二遍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4-1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60.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顶棚刷乳胶漆每增一遍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4-1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3.5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9280" y="907920"/>
            <a:ext cx="87138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面刷乳胶漆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5.76+3.36)×2×2.20-1.00×(2.70-1.00)-1.50×1.80=35.7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面刷乳胶漆二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光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4-1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6.3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面刷乳胶漆每增一遍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4-1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8.7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79280" y="14842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某工程如图所示，内墙抹灰面满刮腻子二遍，贴对花墙纸；挂镜线刷底油一遍，调合漆二遍；挂镜线以上及顶棚刷仿瓷涂料二遍，计算工程量，确定定额项目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7991640" cy="2881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68360" y="26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四、裱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366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纸裱糊按设计图示尺寸以面积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197000"/>
            <a:ext cx="8569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①挂镜线工程量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9.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4)×2×0.3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系数）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挂镜线刷底油一遍，调合漆二遍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4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.8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765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大理石、花岗石楼地面面层点缀子目，其点缀块料按规格块料、被点缀的主体块料按现场加工编制。点缀块料面层的工程量，按设计图示尺寸点缀的面积单独计算；不扣除被点缀的主体块料面层的工程量，其现场加工的人工、机械也不增加（加工用工已在点缀项目内考虑）。楼地面点缀是一种简单的楼地面块料拼铺方式，即在块料四角相交处各切去一个角，另镶一小块深颜色块料，起到点缀作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8:30:23Z</dcterms:created>
  <dc:creator/>
  <dc:description/>
  <dc:language>en-US</dc:language>
  <cp:lastModifiedBy>user</cp:lastModifiedBy>
  <dcterms:modified xsi:type="dcterms:W3CDTF">2013-01-04T08:30:49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