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7F0-5F55-464B-9939-FBA7242D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335-4056-4664-994F-26177D9D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D6F-3CB0-4C30-A963-93B35F32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AB3-ABBF-4CE7-927D-D16BB04E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83C-8F3D-4BBB-92CC-858DB2B1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4DB-6AD2-44E5-B483-09722E19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307-4FBE-45E9-8F23-AB96B6F8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425-50F5-43D7-BBF5-6D1A9B1E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F9F-0718-427E-AB51-25F40E9C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3E6-F32A-4C81-A77A-99876446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329-B3A7-47E8-B966-BEF1C95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22E-E554-441A-A94D-C848EEF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8714-D5C5-455D-BE46-1CC7EFEFC3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42920" y="3429000"/>
          <a:ext cx="6913800" cy="2060640"/>
        </p:xfrm>
        <a:graphic>
          <a:graphicData uri="http://schemas.openxmlformats.org/drawingml/2006/table">
            <a:tbl>
              <a:tblPr/>
              <a:tblGrid>
                <a:gridCol w="3306240"/>
                <a:gridCol w="360756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项    目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单位工程的工程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预制钢筋混凝土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灌注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钢工具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l00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ｍ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ｍ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0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755640" y="1989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单位工程的桩基础工程量在下表数量以内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0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9079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一节  桩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3173400" cy="5132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2623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549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夯扩成孔灌注混凝土桩，按设计桩长增加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ｍ，乘以设计桩外径截面积，另加设计夯扩混凝土体积，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扩成孔灌注桩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÷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夯扩混凝土体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068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算如下图所示夯扩成孔灌注混凝土桩。已知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根，设计桩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，直径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，底部扩大球体直径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。计算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9640" y="549360"/>
          <a:ext cx="8143920" cy="44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14392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765000"/>
            <a:ext cx="88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桩身工程量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4×0.25×0.25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.3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扩成孔灌注混凝土桩（桩身）   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3-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价格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06.6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42.82×0.0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4.55×0.0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13.0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扩混凝土工程量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4×0.5×0.5×0.5×4÷3×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8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扩成孔灌注混凝土桩（夯扩混凝土）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3-2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价格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84.3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5.44×0.0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26.11×0.0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02.39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404640"/>
            <a:ext cx="777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人工挖孔灌注混凝土桩的桩壁和桩芯，分别按设计尺寸以立方米计算。如下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4724280"/>
            <a:ext cx="8353440" cy="1065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桩壁混凝土工程量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桩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÷4-L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桩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桩芯混凝土工程量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桩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÷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411280" y="1773360"/>
          <a:ext cx="3745080" cy="26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773360"/>
                    <a:ext cx="374508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0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电焊接桩按设计要求接桩的根数计算。硫磺胶泥接桩按桩断面面积，以平方米计算。桩头钢筋整理按所整理的桩的根数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241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55736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深层搅拌水泥桩定额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施工编制，实际施工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时，定额人工、机械乘以系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分别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计算。高压旋喷（摆喷）水泥桩的水泥设计用量与定额不同时，可以调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76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2009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、其他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50864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灰土桩、砂石桩、水泥桩，均按设计桩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桩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以设计桩外径截面积，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69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三节      地基与边坡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916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强夯定额中每百平方米夯点数，指设计文件规定单位面积内的夯点数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50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防护工程的钢筋锚杆制作安装，均按相应章节的有关规定执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981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二节      地基与边坡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907920"/>
            <a:ext cx="820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93709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93709"/>
                </a:solidFill>
                <a:latin typeface="Times New Roman"/>
              </a:rPr>
              <a:t>、地基强夯区别不同夯击能量和夯点密度，按设计图示夯击范围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点密度（夯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夯击范围内的夯点个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击范围（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基强夯工程量＝设计图示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608360" cy="537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5280" y="57340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打桩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1197000"/>
            <a:ext cx="770544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无规定时，按建筑物基础外围轴线每边各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地基强夯工程量＝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轴包＋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外轴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×4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4×16    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（ｍ</a:t>
            </a:r>
            <a:r>
              <a:rPr b="0" lang="en-US" sz="2800" spc="-1" strike="noStrike" baseline="30000">
                <a:solidFill>
                  <a:srgbClr val="f9200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击击数是指强夯机械就位后，夯锤在同一夯点上下夯击的次数（落锤高度应满足设计夯击能量的要求，否则按低锤满拍计算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低锤满拍工程量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设计夯击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907920"/>
            <a:ext cx="81360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所示，实线范围为地基强夯范围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要求：不间隔夯击，设计击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击，夯击能量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t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，一遍夯击。求其工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②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要求：间隔夯击，间隔夯击点不大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，设计击数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击，分两遍夯击，第一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击，第二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击，第二遍要求低锤满拍，设计夯击能量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t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。求其工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407664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设计要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程量 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×18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：定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53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 定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54 ×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要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程量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×18×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4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：定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4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 定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低锤满拍套定额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3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0"/>
          <a:ext cx="734544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734544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564000" y="3573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强夯示意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2089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土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708280"/>
            <a:ext cx="38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628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3709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砂浆土钉防护、锚杆机钻孔防护（不包括锚杆），按施工组织设计规定的钻孔入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深度，以米计算。喷射混凝土护坡区分土层与岩层，按施工组织设计规定的防护范围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打桩工程按陆地打垂直桩编制。设计要求打斜桩时，斜度小于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2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；斜度大于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4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斜度是指在竖直方向上，每单位长度所偏离竖直方向的水平距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35772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桩间补桩或在强夯后的地基上打桩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1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62064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打试验桩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.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。定额不包括静测、动测的测桩项目，测桩只能计列一次，实际发生时，按合同约定价格列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637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打送桩时，相应定额人工、机械乘以下表系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3645000"/>
          <a:ext cx="7992720" cy="2231640"/>
        </p:xfrm>
        <a:graphic>
          <a:graphicData uri="http://schemas.openxmlformats.org/drawingml/2006/table">
            <a:tbl>
              <a:tblPr/>
              <a:tblGrid>
                <a:gridCol w="4190760"/>
                <a:gridCol w="3801960"/>
              </a:tblGrid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送  桩  深  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    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以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692280"/>
            <a:ext cx="80280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截桩按所截桩的根数计算，套用本章定额。截桩、凿桩头、钢筋整理应分项计算，凿桩头按桩体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桩主筋直径）乘桩断面以立方米计算，钢筋整理按所整理的桩的根数计算。截桩长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时，不扣减打桩工程量；长度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时，其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部分按实扣减打桩工程量，但不应扣减桩体及其场内运输工程量。成品桩体费用按双方认可的价格列入。距桩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范围内的移动、起吊和就位，已包括在打桩项目内，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的场内运输，执行第十章构件运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k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47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灌注桩已考虑了桩体充盈部分的消耗量，其中灌注砂、石桩还包括级配密实的消耗量。但不包括砼搅拌、钢筋制作、钻孔桩和挖孔桩的土或回旋钻机泥浆的运输、预制桩尖、凿桩头及钢筋整理等项目，但活瓣桩尖和截桩不加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776592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1125360"/>
            <a:ext cx="878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预制钢筋混凝土桩按设计桩长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包括桩尖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乘以桩断面面积，以立方米计算。管桩的空心体积应扣除，如按设计要求加注填充材料时，填充部分另按相应规定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预制钢筋混凝土桩工程量＝设计桩总长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桩断面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42920" y="2133720"/>
          <a:ext cx="669780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66978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79280" y="907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工程用打桩机，打如图所示钢筋混凝土预制方桩，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根，求其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86064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工程量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×0.5×(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6)×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7.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钢筋混凝土预制方桩  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3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032.7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5640" y="981000"/>
            <a:ext cx="7920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打孔灌注混凝土桩、钻孔灌注混凝土桩，按设计桩长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包括桩尖，设计要求入岩时，包括入岩深度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另加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.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ｍ，乘以设计桩外径截面积，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灌注桩混凝土工程量＝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桩长（含桩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桩外直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13:39:51Z</dcterms:modified>
  <cp:revision>82</cp:revision>
  <dc:subject/>
  <dc:title>PowerPoint Presentation</dc:title>
</cp:coreProperties>
</file>