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26C6-37C1-4E52-B513-F72747B6DE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二、工程造价的计价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单件性     工程的单件性决定每项工程都必须单独计算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多次性     根据下图可以看出建设工程要按程序分段进行，相应地也要在不同阶段多次计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组合性    工程造价是由小到大江总组合而成，即分部分项工程 单价——单位工程造价——单项工程单价——建设项目总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多样性   多次计价都有不同的依据，对工程造价的精度要求不同，计算方法多样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复杂性    由于影响造价的因素多、计价的依据复杂，种类繁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、工程造价的特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大额性   几百万、上千万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个别性、差别性    一个工程一个样，造价都不同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动态性    工程造价在整个建设期间处于不确定状态，直到竣工时才能最终确定出实际造价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层次性   工程造价多层组合，层次性非常明显，怀小到大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兼容性   计划、投资、设计、施工都涉及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四、工程造价的职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预测职能   无论投资者还是建筑商都要对似建工程进行预先预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控制职能   根据对造价的多层次的预估，进行全过程多层次的控制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评价性    是评价总投资和分项投资的合理性和效益的依据，是评价建安企业管理水平和经营成果的依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调控性   对工程建设的物质消耗、建设规模、投资方向进行调控管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二、工程造价的计价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单件性     工程的单件性决定每项工程都必须单独计算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多次性     根据下图可以看出建设工程要按程序分段进行，相应地也要在不同阶段多次计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组合性    工程造价是由小到大江总组合而成，即分部分项工程 单价——单位工程造价——单项工程单价——建设项目总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多样性   多次计价都有不同的依据，对工程造价的精度要求不同，计算方法多样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复杂性    由于影响造价的因素多、计价的依据复杂，种类繁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、工程造价的特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大额性   几百万、上千万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个别性、差别性    一个工程一个样，造价都不同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动态性    工程造价在整个建设期间处于不确定状态，直到竣工时才能最终确定出实际造价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层次性   工程造价多层组合，层次性非常明显，怀小到大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兼容性   计划、投资、设计、施工都涉及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四、工程造价的职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预测职能   无论投资者还是建筑商都要对似建工程进行预先预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控制职能   根据对造价的多层次的预估，进行全过程多层次的控制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评价性    是评价总投资和分项投资的合理性和效益的依据，是评价建安企业管理水平和经营成果的依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调控性   对工程建设的物质消耗、建设规模、投资方向进行调控管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989-2C1A-4AFF-BFD3-965B7675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734-9F38-4AD6-9FFA-E2AA351B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2BA-4326-4CB9-B4A0-DCEAF199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896-EB2A-4DAE-9EF9-436C4EE1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92E-B45F-40A1-9581-947AF7ED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59A-64C0-453A-93A4-110EF8C5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499-87E2-489D-A2EE-CD2079B7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777-A137-412D-A5F0-B68C9D6F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B06-46C9-4EDB-9A8C-5339383B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01C-9529-4149-B435-EBE1711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D7D-9DDC-47A9-ADDD-7E048844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BDC-B00D-484E-B782-81F13DC4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E638-761F-4E51-A46A-59B85CBC6C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08000" y="1341360"/>
            <a:ext cx="4754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第一节   基本建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280" y="475920"/>
            <a:ext cx="4753440" cy="64944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45929" dir="2028877" blurRad="0" rotWithShape="0">
              <a:srgbClr val="c0c0c0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、基本建设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438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基本建设是国民经济各部门固定资产的再生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03848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895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二、基本建设的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建筑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设备安装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设备购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5105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工具、器具及生产家具的购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其它基本建设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3200400"/>
            <a:ext cx="3276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40464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三、基本建设项目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03848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492280"/>
            <a:ext cx="1600200" cy="86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建设性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不同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2924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62040" y="1641600"/>
            <a:ext cx="20880" cy="24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62040" y="1641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62040" y="232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82920" y="292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2920" y="3505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1488960"/>
            <a:ext cx="137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新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209880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扩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70828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改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328932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恢复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492280"/>
            <a:ext cx="160020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建设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不同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3480" y="2886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4720" y="1971720"/>
            <a:ext cx="14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4720" y="1971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4720" y="2657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4720" y="3267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4720" y="3876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05600" y="181944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筹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05600" y="242892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施工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05600" y="3038400"/>
            <a:ext cx="137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投产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05600" y="364824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收尾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82920" y="408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386568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迁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4400" y="5105520"/>
            <a:ext cx="1600200" cy="71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建设用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不同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4600" y="5425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50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580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4869000"/>
            <a:ext cx="252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生产性建设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5589720"/>
            <a:ext cx="252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非生产性建设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2924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260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三、基本建设项目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585324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43520"/>
            <a:ext cx="197496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资金来源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渠道不同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4600" y="4462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3573360"/>
            <a:ext cx="0" cy="24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35733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835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5411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3395520"/>
            <a:ext cx="2592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国家投资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05360"/>
            <a:ext cx="2592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银行信用筹资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4614840"/>
            <a:ext cx="2592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自筹资金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5195880"/>
            <a:ext cx="2592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引进外资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5987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5772240"/>
            <a:ext cx="2592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资金市场筹资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5680" y="1620720"/>
            <a:ext cx="194328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建设规模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投资多少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68960" y="198108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787640" y="1333440"/>
            <a:ext cx="140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2040" y="1333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2040" y="1981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1163520"/>
            <a:ext cx="137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大型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77336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中型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38284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小型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260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四、基本建设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585324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3160" y="98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本建设程序就是基本建设工作中必须遵循的先后次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09680" y="1898280"/>
            <a:ext cx="8355960" cy="3982680"/>
            <a:chOff x="409680" y="1898280"/>
            <a:chExt cx="8355960" cy="3982680"/>
          </a:xfrm>
        </p:grpSpPr>
        <p:sp>
          <p:nvSpPr>
            <p:cNvPr id="122" name=""/>
            <p:cNvSpPr/>
            <p:nvPr/>
          </p:nvSpPr>
          <p:spPr>
            <a:xfrm>
              <a:off x="2086560" y="1920240"/>
              <a:ext cx="397800" cy="1585800"/>
            </a:xfrm>
            <a:prstGeom prst="rect">
              <a:avLst/>
            </a:prstGeom>
            <a:solidFill>
              <a:srgbClr val="ffffff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设计任务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11800" y="4442400"/>
              <a:ext cx="396360" cy="13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投资估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71440" y="4536000"/>
              <a:ext cx="396360" cy="13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修正概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8720" y="1935000"/>
              <a:ext cx="394920" cy="13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初步设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12800" y="5132160"/>
              <a:ext cx="4622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31920" y="1918800"/>
              <a:ext cx="396360" cy="159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可行性研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61360" y="1920240"/>
              <a:ext cx="39492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技术设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69640" y="1913040"/>
              <a:ext cx="394920" cy="156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施工图设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0000" y="1902600"/>
              <a:ext cx="396360" cy="158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招标与投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4840" y="4537440"/>
              <a:ext cx="398880" cy="13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设计概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83680" y="4217400"/>
              <a:ext cx="396360" cy="16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施工图预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66760" y="4471920"/>
              <a:ext cx="396360" cy="13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施工预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31840" y="4458600"/>
              <a:ext cx="397800" cy="13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工程结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49840" y="4281840"/>
              <a:ext cx="396360" cy="158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标底与报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20680" y="1902600"/>
              <a:ext cx="39996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工程施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1926000"/>
              <a:ext cx="362160" cy="24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中长期发展规划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3240" y="3239280"/>
              <a:ext cx="4680" cy="12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75360" y="5133240"/>
              <a:ext cx="524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415320" y="2755440"/>
              <a:ext cx="4672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46560" y="2747160"/>
              <a:ext cx="5176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9440" y="2755440"/>
              <a:ext cx="515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71400" y="2751480"/>
              <a:ext cx="48636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76080" y="5124600"/>
              <a:ext cx="48456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517480" y="2743560"/>
              <a:ext cx="4568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41280" y="5131800"/>
              <a:ext cx="809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1840" y="3278520"/>
              <a:ext cx="7560" cy="12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13440" y="2748240"/>
              <a:ext cx="5482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5760" y="2752560"/>
              <a:ext cx="4507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720" y="2755440"/>
              <a:ext cx="462240" cy="1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544960" y="3272760"/>
              <a:ext cx="252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70720" y="4464720"/>
              <a:ext cx="394920" cy="13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竣工决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41200" y="1914480"/>
              <a:ext cx="396360" cy="138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竣工验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55600" y="1898280"/>
              <a:ext cx="401400" cy="13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实施规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955560" y="2752560"/>
              <a:ext cx="44064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71400" y="5132160"/>
              <a:ext cx="514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6240" y="5132160"/>
              <a:ext cx="44604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8800" y="5133240"/>
              <a:ext cx="514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1160" y="3526920"/>
              <a:ext cx="108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980600" y="3493080"/>
              <a:ext cx="2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5120" y="3377880"/>
              <a:ext cx="864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0960" y="3347280"/>
              <a:ext cx="108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9440" y="3941640"/>
              <a:ext cx="1260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6840" y="354420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56480" y="354420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6840" y="3941640"/>
              <a:ext cx="80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7993080" cy="761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第二节   建筑业在国民经济中的地位和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916280"/>
            <a:ext cx="820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筑业是从事建筑安装工程的勘测设计、工程施工、设备安装和建筑工程更新维修等生产活动的一个物质生产部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200400"/>
            <a:ext cx="4495680" cy="459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二、建筑业在国民经济中的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733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为国民经济各部门的发展提供了物质技术基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4221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为不断改善人民物质文化生活水平提供各种设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724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是为国家增加积累和扩大创汇的重要部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52293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是工业、交通运输业的重要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573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为劳动就业提供重要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1268280"/>
            <a:ext cx="464832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、建筑业在国民经济中的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1760" y="91440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一、建设项目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447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、建设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、单项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、单位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、分部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分项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子项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4876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单项工程是指在一个建设项目中，具有独立的设计文件，竣工后可以独立发挥生产能力或效益的工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7913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单位工程是指竣工后不能独立发挥生产能力或效益，但具有独立设计，可以独立组织施工的工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6520" y="9558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34080" y="43848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方整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6520" y="43848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整砌毛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8600" y="43848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毛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34080" y="3699000"/>
            <a:ext cx="1886040" cy="41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轻质砖砌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6520" y="36990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8600" y="36990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黏土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34080" y="3013200"/>
            <a:ext cx="1886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钢筋及砼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6520" y="30132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砌筑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08480" y="3013200"/>
            <a:ext cx="1549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土石方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34080" y="23274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采暖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6520" y="23274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土建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8600" y="23274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电气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34080" y="16416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宿舍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6520" y="16416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教学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8600" y="16416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公办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133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8080" y="14889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8080" y="1488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43920" y="1488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6000" y="202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8080" y="21747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8080" y="2174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43920" y="2174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6000" y="27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8080" y="28605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8080" y="2860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43920" y="2860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339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8080" y="35463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8080" y="3546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43920" y="3546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6000" y="407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8080" y="42321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8080" y="4232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43920" y="4232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节   建设工程计价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5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6996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二、建筑产品及生产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09120" y="120348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固定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12716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1197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单件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27640" y="119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露天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16720" y="119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生产周期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7880" y="2421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工程造价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280" y="3106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大额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280" y="3639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个别性、差别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280" y="4173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动态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280" y="4707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层次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280" y="5164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兼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2421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工程造价的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3106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预测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3792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控制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6360" y="4478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评价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16360" y="5157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调控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1701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三、工程造价的特点和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411480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四、工程造价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066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项目决策的工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制定投资计划和控制投资的有效工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筹集建设资金的依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438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合理利益分配和调节产业结构的手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895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评价投资效果的重要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581280"/>
            <a:ext cx="58672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五、工程造价改革的内容和任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改革现行工程定额管理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800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加强工程造价信息的收集、处理和发布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52293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对政府投资工程和非政府投资工程实行不同的定价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加强对工程造价的监督管理，逐步建立工程造价的监督检查制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3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1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6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1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7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4322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四节  基本建设预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838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5238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行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研究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1523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初步设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1523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技术设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5238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施工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设计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1523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招标投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29400" y="1523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合同实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48720" y="15238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竣工验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4382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投资估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2438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概算造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71800" y="2438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概算造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24382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预算造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2438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合同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2438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结算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24382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实际造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436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5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5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8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500"/>
                            </p:stCondLst>
                            <p:childTnLst>
                              <p:par>
                                <p:cTn id="8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5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08:42:10Z</dcterms:modified>
  <cp:revision>73</cp:revision>
  <dc:subject/>
  <dc:title>PowerPoint Presentation</dc:title>
</cp:coreProperties>
</file>